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30D6-A1A0-4F3C-9E14-9EEF8393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CE8-647A-476A-BD55-BCDA1998C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9A6-5F41-4C40-B826-2B50EF39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32F-B31B-4596-BE83-AC9785C3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8C6-99E3-4A8E-9E3D-2DFCC7FF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813-E04D-453D-A4DF-08547942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9F3-6F07-418A-8FAE-7D11481F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B1F-E7D9-43FD-A5DB-B2BEE14D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7C2-2F20-46D5-884C-B8ABAB01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054-526C-4EBE-9139-AB40297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19E-8D5F-4660-B345-5C48858E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EC5-52CB-4ABD-8D0B-759496D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4D5-B6D0-4665-ADBE-96737954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215-B16A-4B9C-A535-52AC5551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C827-9536-4851-B1B3-C4998AD3F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6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00200" y="380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6858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6858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6858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6858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990720"/>
            <a:ext cx="6019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86600" y="10666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228600" y="4495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362320" y="2286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27672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362320" y="2666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410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0" y="6324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362320" y="2286000"/>
            <a:ext cx="6172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¡¡Yo soy contenta y aburrida!! Yo estoy alta! Mis piernas muy Alt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!!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590920" y="1828800"/>
            <a:ext cx="5410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a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514600" y="1447920"/>
            <a:ext cx="5257800" cy="3045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286000" y="2819520"/>
            <a:ext cx="6324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. Cuánto libros tienes? Yo quiero un libro. Mis libro es  pequeño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mi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590920" y="3276720"/>
            <a:ext cx="54864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590920" y="3886200"/>
            <a:ext cx="6324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743200" y="106668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soy Microonda; U w 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223280" y="632448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6" descr="Emily.jpg"/>
          <p:cNvPicPr/>
          <p:nvPr/>
        </p:nvPicPr>
        <p:blipFill>
          <a:blip r:embed="rId1"/>
          <a:stretch/>
        </p:blipFill>
        <p:spPr>
          <a:xfrm>
            <a:off x="1295280" y="4800600"/>
            <a:ext cx="6858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Angera.jpg"/>
          <p:cNvPicPr/>
          <p:nvPr/>
        </p:nvPicPr>
        <p:blipFill>
          <a:blip r:embed="rId2"/>
          <a:stretch/>
        </p:blipFill>
        <p:spPr>
          <a:xfrm>
            <a:off x="0" y="4876920"/>
            <a:ext cx="587520" cy="58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Angera.jpg"/>
          <p:cNvPicPr/>
          <p:nvPr/>
        </p:nvPicPr>
        <p:blipFill>
          <a:blip r:embed="rId3"/>
          <a:stretch/>
        </p:blipFill>
        <p:spPr>
          <a:xfrm>
            <a:off x="1981080" y="137160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New Canvas.jpg"/>
          <p:cNvPicPr/>
          <p:nvPr/>
        </p:nvPicPr>
        <p:blipFill>
          <a:blip r:embed="rId4"/>
          <a:stretch/>
        </p:blipFill>
        <p:spPr>
          <a:xfrm>
            <a:off x="304920" y="609480"/>
            <a:ext cx="1160280" cy="137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New Canvas.jpg"/>
          <p:cNvPicPr/>
          <p:nvPr/>
        </p:nvPicPr>
        <p:blipFill>
          <a:blip r:embed="rId5"/>
          <a:stretch/>
        </p:blipFill>
        <p:spPr>
          <a:xfrm>
            <a:off x="2057400" y="1752480"/>
            <a:ext cx="384120" cy="463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Angera.jpg"/>
          <p:cNvPicPr/>
          <p:nvPr/>
        </p:nvPicPr>
        <p:blipFill>
          <a:blip r:embed="rId6"/>
          <a:stretch/>
        </p:blipFill>
        <p:spPr>
          <a:xfrm>
            <a:off x="1905120" y="2286000"/>
            <a:ext cx="46188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7388640" y="190512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6" descr="Emily.jpg"/>
          <p:cNvPicPr/>
          <p:nvPr/>
        </p:nvPicPr>
        <p:blipFill>
          <a:blip r:embed="rId7"/>
          <a:stretch/>
        </p:blipFill>
        <p:spPr>
          <a:xfrm>
            <a:off x="1828800" y="2819520"/>
            <a:ext cx="533520" cy="49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8" descr="Esume.png"/>
          <p:cNvPicPr/>
          <p:nvPr/>
        </p:nvPicPr>
        <p:blipFill>
          <a:blip r:embed="rId8"/>
          <a:stretch/>
        </p:blipFill>
        <p:spPr>
          <a:xfrm>
            <a:off x="685800" y="4800600"/>
            <a:ext cx="595440" cy="6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Haine Finale.jpg"/>
          <p:cNvPicPr/>
          <p:nvPr/>
        </p:nvPicPr>
        <p:blipFill>
          <a:blip r:embed="rId9"/>
          <a:stretch/>
        </p:blipFill>
        <p:spPr>
          <a:xfrm>
            <a:off x="1143000" y="5715000"/>
            <a:ext cx="64152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0" descr="Rufi.jpg"/>
          <p:cNvPicPr/>
          <p:nvPr/>
        </p:nvPicPr>
        <p:blipFill>
          <a:blip r:embed="rId10"/>
          <a:stretch/>
        </p:blipFill>
        <p:spPr>
          <a:xfrm>
            <a:off x="0" y="5715000"/>
            <a:ext cx="63648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9" descr="Haine Finale.jpg"/>
          <p:cNvPicPr/>
          <p:nvPr/>
        </p:nvPicPr>
        <p:blipFill>
          <a:blip r:embed="rId11"/>
          <a:stretch/>
        </p:blipFill>
        <p:spPr>
          <a:xfrm>
            <a:off x="1981080" y="3276720"/>
            <a:ext cx="533520" cy="479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2514600" y="327672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la! Yo uso marcadores, Ellas son estudientes? (Points to Angera and Emiri). Desayuno huevos, y muchos dulces. ¿ Donde están nuestros proyectos? Adiós, Yo estoy ocupado!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286000" y="5410080"/>
            <a:ext cx="6858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2286000" y="4572000"/>
            <a:ext cx="6477120" cy="2286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á amiga! Nuestra tarea es estúpida! Hoy, Yo hago la tarea. Adi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um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2590920" y="6019920"/>
            <a:ext cx="53337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2895480" y="4876920"/>
            <a:ext cx="54104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0" descr="Rufi.jpg"/>
          <p:cNvPicPr/>
          <p:nvPr/>
        </p:nvPicPr>
        <p:blipFill>
          <a:blip r:embed="rId12"/>
          <a:stretch/>
        </p:blipFill>
        <p:spPr>
          <a:xfrm>
            <a:off x="2057400" y="3809880"/>
            <a:ext cx="533520" cy="554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396252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¡¡Me llamo Rufi!! Como eres tú. Yo estoy feliz. ¡Yo me siento joven, Nosotros estamos contentas, y nostoros somos jóvenes! ¡Yo aprendo el arte, Yo soy una estudiante en el arte colegio! Hoy, Yo soy escribo un libro. Haha , Ustedes quiren Copics.Tú tiene Copics. Sus amigas  son simpaticas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8" descr="Esume.png"/>
          <p:cNvPicPr/>
          <p:nvPr/>
        </p:nvPicPr>
        <p:blipFill>
          <a:blip r:embed="rId13"/>
          <a:stretch/>
        </p:blipFill>
        <p:spPr>
          <a:xfrm>
            <a:off x="1905120" y="4419720"/>
            <a:ext cx="457200" cy="4842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3048120" y="6095880"/>
            <a:ext cx="464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¡Hey, esos son mis marcadores! Sus maracadores son grand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8" descr="Esume.png"/>
          <p:cNvPicPr/>
          <p:nvPr/>
        </p:nvPicPr>
        <p:blipFill>
          <a:blip r:embed="rId14"/>
          <a:stretch/>
        </p:blipFill>
        <p:spPr>
          <a:xfrm>
            <a:off x="2133720" y="6019920"/>
            <a:ext cx="436320" cy="46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0" descr="Rufi.jpg"/>
          <p:cNvPicPr/>
          <p:nvPr/>
        </p:nvPicPr>
        <p:blipFill>
          <a:blip r:embed="rId15"/>
          <a:stretch/>
        </p:blipFill>
        <p:spPr>
          <a:xfrm>
            <a:off x="2130480" y="5410080"/>
            <a:ext cx="490320" cy="50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6" descr="Emily.jpg"/>
          <p:cNvPicPr/>
          <p:nvPr/>
        </p:nvPicPr>
        <p:blipFill>
          <a:blip r:embed="rId16"/>
          <a:stretch/>
        </p:blipFill>
        <p:spPr>
          <a:xfrm>
            <a:off x="2362320" y="4876920"/>
            <a:ext cx="520560" cy="477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3200400" y="495288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s amigas están emocionadas , ¡Ella está feliz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200400" y="541008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¿Ellos tienen chocolates? ¿Cuántos años tienes?  ¡Su tarea es estupida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42:05Z</dcterms:modified>
  <cp:revision>127</cp:revision>
  <dc:subject/>
  <dc:title>Profile</dc:title>
</cp:coreProperties>
</file>